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288588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8116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900240" y="0"/>
            <a:ext cx="298116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830160" y="696960"/>
            <a:ext cx="52293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298116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900240" y="8831160"/>
            <a:ext cx="298116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4E75DA7-A921-487E-82CF-B6DDECA26F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826920" y="696960"/>
            <a:ext cx="5229360" cy="34862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d to non-Hispanic whites, non-Hispanic blacks had about 50% higher prevalence of obesity, and Hispanics had about 20% higher prevale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826920" y="696960"/>
            <a:ext cx="5229360" cy="34862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11 states with a prevalence &gt;=30% among Hispanics are Alaska, Arizona, Illinois, Kansas, Michigan, New Hampshire, North Dakota, Oklahoma, Pennsylvania, Tennessee, and Texas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FB12-2E17-4735-89F3-11248CC98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7112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1120" y="160020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71120" y="374976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303C-5337-4AD8-B47C-400C34B71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112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71120" y="16002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52040" y="16002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71120" y="37497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52040" y="37497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8CBA-4F10-4D9D-9C63-CC0285CAE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7112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71120" y="16002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7440" y="16002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83760" y="16002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71120" y="37497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7440" y="37497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83760" y="37497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635A-1D1C-487F-A81D-C35A2BDC8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7112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71120" y="16002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A749-230A-4E87-8508-CCEE49266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112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71120" y="16002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B804-E8E0-457A-9ECE-FB16A5A98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112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71120" y="16002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52040" y="16002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604F-9A29-4BC9-9FE6-3499D2DC3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112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5940-BD85-4953-A909-BF31EFCE5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71120" y="30456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B125-BE87-48E9-9FD1-58E1B15CA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7112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71120" y="16002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52040" y="16002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71120" y="37497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C33E-9844-4CF3-8B03-49F2BD63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7112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71120" y="16002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52040" y="16002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52040" y="37497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2F3E-B576-4BFF-AF30-6F63770C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7112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71120" y="16002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52040" y="16002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71120" y="374976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4315-4A80-4890-830D-FC73589E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6002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0EBB0-16CA-49AD-8462-A780334E39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994600" y="5908680"/>
            <a:ext cx="936720" cy="6364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380880" y="6515280"/>
            <a:ext cx="7356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Source: CDC Behavioral Risk Factor Surveillance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977320" y="5908680"/>
            <a:ext cx="961920" cy="67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2880" y="552240"/>
            <a:ext cx="9058320" cy="136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66d"/>
                </a:solidFill>
                <a:latin typeface="Verdana"/>
              </a:rPr>
              <a:t>State-specific Prevalence of Obesity Among U.S. Adults, by Race/Ethnicity, 2006-2008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71120" y="1980720"/>
            <a:ext cx="8744040" cy="400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Definitions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besity: Body mass index (BMI) of 30 or higher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ody mass index (BMI): A measure of an adult’s weight in relation to his or her height, specifically the adult’s weight in kilograms divided by the square of his or her height in meter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994600" y="5908680"/>
            <a:ext cx="936720" cy="63648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71120" y="1914120"/>
            <a:ext cx="8820360" cy="431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Methods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havioral Risk Factor Surveillance System (BRFSS)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lf-reported weights and height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imited to three years of data and limited to three racial/ethnic populations; non-Hispanic whites, non-Hispanic blacks, and Hispanic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ge-adjusted to the 2000 U.S. standard population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994600" y="5908680"/>
            <a:ext cx="936720" cy="6364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771480" y="352080"/>
            <a:ext cx="901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66d"/>
                </a:solidFill>
                <a:latin typeface="Verdana"/>
              </a:rPr>
              <a:t>State-specific Prevalence of Obesity Among U.S. Adults, by Race/Ethnicity, 2006-2008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00160" y="6029280"/>
            <a:ext cx="14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(*BMI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3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0" t="17123" r="0" b="10401"/>
          <a:stretch/>
        </p:blipFill>
        <p:spPr>
          <a:xfrm>
            <a:off x="314280" y="1525680"/>
            <a:ext cx="4917960" cy="2395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8158" t="20803" r="0" b="11523"/>
          <a:stretch/>
        </p:blipFill>
        <p:spPr>
          <a:xfrm>
            <a:off x="5675400" y="1677960"/>
            <a:ext cx="4278240" cy="2228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14760" y="3618000"/>
            <a:ext cx="90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ispan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rcRect l="0" t="90168" r="17473" b="0"/>
          <a:stretch/>
        </p:blipFill>
        <p:spPr>
          <a:xfrm>
            <a:off x="1657440" y="5962680"/>
            <a:ext cx="6883200" cy="52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71680" y="352440"/>
            <a:ext cx="925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te-specific Prevalence of Obesity* Among U.S. Adults, by Race/Ethnicity, 2006-20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19440" y="1474920"/>
            <a:ext cx="200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White non-Hispan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53400" y="1531800"/>
            <a:ext cx="177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lack non-Hispan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3008160" y="3733920"/>
            <a:ext cx="3684600" cy="220968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0" t="16839" r="0" b="15581"/>
          <a:stretch/>
        </p:blipFill>
        <p:spPr>
          <a:xfrm>
            <a:off x="1114560" y="1857240"/>
            <a:ext cx="8231040" cy="3875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95400" y="5952960"/>
            <a:ext cx="14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*BMI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rcRect l="0" t="90168" r="17473" b="0"/>
          <a:stretch/>
        </p:blipFill>
        <p:spPr>
          <a:xfrm>
            <a:off x="1428840" y="5962680"/>
            <a:ext cx="6883200" cy="5205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705120" y="1514520"/>
            <a:ext cx="250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ite non-Hispan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1680" y="352440"/>
            <a:ext cx="925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te-specific Prevalence of Obesity* Among U.S. Adults, by Race/Ethnicity, 2006-20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1247760" y="1692360"/>
            <a:ext cx="8129520" cy="4241880"/>
            <a:chOff x="1247760" y="1692360"/>
            <a:chExt cx="8129520" cy="4241880"/>
          </a:xfrm>
        </p:grpSpPr>
        <p:pic>
          <p:nvPicPr>
            <p:cNvPr id="72" name="" descr=""/>
            <p:cNvPicPr/>
            <p:nvPr/>
          </p:nvPicPr>
          <p:blipFill>
            <a:blip r:embed="rId1"/>
            <a:srcRect l="0" t="13444" r="0" b="12002"/>
            <a:stretch/>
          </p:blipFill>
          <p:spPr>
            <a:xfrm>
              <a:off x="1247760" y="1692360"/>
              <a:ext cx="8129520" cy="424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 txBox="1"/>
            <p:nvPr/>
          </p:nvSpPr>
          <p:spPr>
            <a:xfrm>
              <a:off x="1247760" y="1692360"/>
              <a:ext cx="8129520" cy="424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76320" y="5952960"/>
            <a:ext cx="14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(*BMI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3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rcRect l="0" t="90168" r="17473" b="0"/>
          <a:stretch/>
        </p:blipFill>
        <p:spPr>
          <a:xfrm>
            <a:off x="1428840" y="5962680"/>
            <a:ext cx="6883200" cy="5205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71680" y="352440"/>
            <a:ext cx="925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te-specific Prevalence of Obesity* Among U.S. Adults, by Race/Ethnicity, 2006-20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33720" y="169380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lack non-Hispan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285920" y="1684440"/>
            <a:ext cx="7715160" cy="3914640"/>
            <a:chOff x="1285920" y="1684440"/>
            <a:chExt cx="7715160" cy="3914640"/>
          </a:xfrm>
        </p:grpSpPr>
        <p:pic>
          <p:nvPicPr>
            <p:cNvPr id="79" name="" descr=""/>
            <p:cNvPicPr/>
            <p:nvPr/>
          </p:nvPicPr>
          <p:blipFill>
            <a:blip r:embed="rId1"/>
            <a:srcRect l="0" t="12644" r="0" b="15523"/>
            <a:stretch/>
          </p:blipFill>
          <p:spPr>
            <a:xfrm>
              <a:off x="1285920" y="1684440"/>
              <a:ext cx="7715160" cy="39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 txBox="1"/>
            <p:nvPr/>
          </p:nvSpPr>
          <p:spPr>
            <a:xfrm>
              <a:off x="1285920" y="1684440"/>
              <a:ext cx="7715160" cy="3914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0" y="5952960"/>
            <a:ext cx="14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(*BMI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3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rcRect l="0" t="90168" r="17473" b="0"/>
          <a:stretch/>
        </p:blipFill>
        <p:spPr>
          <a:xfrm>
            <a:off x="1428840" y="5962680"/>
            <a:ext cx="6883200" cy="5205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933720" y="169380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Hispan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71680" y="352440"/>
            <a:ext cx="925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te-specific Prevalence of Obesity* Among U.S. Adults, by Race/Ethnicity, 2006-20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10287000" cy="68580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14080" y="0"/>
            <a:ext cx="93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Table. Prevalence of obesity, by region and race/ethnicity, 2006-200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771480" y="762120"/>
          <a:ext cx="8743680" cy="5734080"/>
        </p:xfrm>
        <a:graphic>
          <a:graphicData uri="http://schemas.openxmlformats.org/drawingml/2006/table">
            <a:tbl>
              <a:tblPr/>
              <a:tblGrid>
                <a:gridCol w="1676880"/>
                <a:gridCol w="2307240"/>
                <a:gridCol w="2348640"/>
                <a:gridCol w="241092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Non-Hispanic whi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Non-Hispanic bla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Hispan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ot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Both sex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3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35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8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5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31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7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Wom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1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39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9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rthea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Both sex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2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31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6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5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6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6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Wom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36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6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idwes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Both sex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5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36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9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3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Wom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3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4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9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ou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Both sex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4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36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9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6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32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8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Wom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40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W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Both sex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3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9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34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7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Wom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9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3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30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10287000" cy="68580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1120" y="0"/>
            <a:ext cx="8744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71120" y="990720"/>
            <a:ext cx="87440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n-Hispanic blacks had the highest prevalence, followed by Hispanics, and non-Hispanic white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r non-Hispanic blacks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verall prevalence of obesity—35.7%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igher prevalences were found in the Midwest and Sout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evalence ranged from 23.0% (New Hampshire) to 45.1% (Maine)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40 states had a prevalence of ≥ 30%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5 states (Alabama, Maine, Mississippi, Ohio, and Oregon) had a prevalence of ≥ 40%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10287000" cy="68580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71120" y="-360"/>
            <a:ext cx="874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ummary (Cont’d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43080" y="837720"/>
            <a:ext cx="99439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r Hispanics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verall prevalence of obesity—28.7%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ower prevalence was observed in the Northeast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evalence ranged from 21.0% (Maryland) to 36.7% (Tennessee)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1 states had a prevalence of ≥ 30%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r non-Hispanic whites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verall prevalence of obesity—23.7%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igher prevalences were found in the Midwest and Sout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evalence ranged from 9.0% (DC) to 30.2% (West Virginia)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nly one state (West Virginia) had a prevalence of ≥ 30%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5 states (California, Colorado, Connecticut, Hawaii, and New Mexico) and DC had a prevalence of &lt;20%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5T15:41:08Z</dcterms:created>
  <dc:creator>CDC</dc:creator>
  <dc:description/>
  <dc:language>en-US</dc:language>
  <cp:lastModifiedBy>Nvasquez</cp:lastModifiedBy>
  <cp:lastPrinted>2002-06-18T17:22:31Z</cp:lastPrinted>
  <dcterms:modified xsi:type="dcterms:W3CDTF">2010-04-26T14:35:35Z</dcterms:modified>
  <cp:revision>257</cp:revision>
  <dc:subject/>
  <dc:title>No Slide Title</dc:title>
</cp:coreProperties>
</file>